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568-0F3A-4F21-B002-B5AF4720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E12-2F0C-415A-884B-362312E3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9FD-49FA-48D9-B01F-65AD79EB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5E7-2070-41EC-BFA2-2B5B31EB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5F8-3D1F-47B7-B224-C393B56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DE0-57EE-40AD-A848-5C70213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50B-5C3E-4BD1-A929-BC1826C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1F2-B835-4B0B-BED3-95E40AA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380-DD75-4D3B-A583-1F5B74D0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A47-E760-46F1-B77F-7B24EFC5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683-5BFF-49D9-B71E-99012C6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39D-6D27-4976-8D4C-8E96259A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BD9-6956-4B56-9DB1-C5E38ACA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rvey of Plug-in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ris C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Vic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c@uvic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or developers to extend because of well-defined and well-known extensio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Net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s allowed Netscape to “display files in formats that were not even conceived of when the browser was develop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, SVG, SWF, VRM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 creators developed plug-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at browsers could support the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, and it helped with ad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orking with open source code, the code might be copylefted which may force you to open source your changes. (GPL strong copyleft, MPL weak copyle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L allows for an exception to copylefting, can allow developer to extend a plug-in interface without being infected by G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 says no copylefting if code is not embedded within an applica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erivative code in sepa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counts as independen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test plug-ins in different combinations and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compounded if there are third-party plug-in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problems can be intentionally/unintentionally introduced by a malicious coder or a careless 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escalated if third parties can distribute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problems if plug-in is closed source, unable to audi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difficult to protect against arbitrary third part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lip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gine is responsible for locating and executing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gistry lists installed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unctionality is required, engine looks at registry and dynamically loads 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lug-in provides metadata about itself inside a manifes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xtension point it ext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ervices it 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vents/tasks it liste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lass_diagram" descr=""/>
          <p:cNvPicPr/>
          <p:nvPr/>
        </p:nvPicPr>
        <p:blipFill>
          <a:blip r:embed="rId2"/>
          <a:stretch/>
        </p:blipFill>
        <p:spPr>
          <a:xfrm>
            <a:off x="762120" y="1015920"/>
            <a:ext cx="7646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lename: plugins/PluginInterfac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interface PluginInterfa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ring sayHell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file: plugins/EnglishHello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class EnglishHel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mplements Plugin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ring sayHel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turn "Hello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le: plugins/FrenchHello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FrenchHel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s Plugin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sayHel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"Bonjou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file: HelloLoade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class HelloLoad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open plugin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File dir = new File("plugin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ing[] listing = dir.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load each class and execute plu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for (int i = 0; i &lt; listing.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llPlugin(class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tch (Exception e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executes individual plu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atic void callPlugin(String className) throws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loa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lass plugin = Class.forNam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"plugins."+clas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heck if class implem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Object pluginInstance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.newInstan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6858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get the agreed upon getCallback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as defined by the Plugin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Method sayHello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.getDeclaredMethod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"sayHell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, empty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dynamically cal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ing result = sayHello.invok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, emptyObj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.toStrin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ystem.out.println(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maintainability and modul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s barrier of entry for new developers and third party 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istribute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for customiz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protect intellectual property from open source lic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issues are a con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tric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 can be a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surrounding plug-i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plug-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 of software intended to extend the functionality of an independent application at run-ti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ug-in architecture is a framework that supports plug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ceptual model of plug-in archite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lugins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3719520" cy="4400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1080" y="3429000"/>
            <a:ext cx="2667240" cy="5335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1960" y="2936880"/>
            <a:ext cx="22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be independent from the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should be a “black-box” view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not “know” the plug-in beforehand; the plug-in must introduce itself to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be loosely coupled with the plug-ins; a common interface to be provided by the plug-ins must be defined precis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should define what services are provided to the plug-in via interfac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ug-in must be self-co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ity &amp;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unctionality can be added as a 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a “complete, clean separation from the main application and the various branches with their separate functionali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application has fewer interdependencies, and becomes smaller and more maintain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s barrier of entry into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-in developers can treat application as a black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work independently fro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ers of core code aren’t bogged down by new code which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s are is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paralle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dependencies on other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architecture for open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ustomize software by merely adding/removing plug-ins without having to modify the application’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f application needs to be deployed on a variety of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phones, servers, P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rowser" descr=""/>
          <p:cNvPicPr/>
          <p:nvPr/>
        </p:nvPicPr>
        <p:blipFill>
          <a:blip r:embed="rId2"/>
          <a:stretch/>
        </p:blipFill>
        <p:spPr>
          <a:xfrm>
            <a:off x="838080" y="1311120"/>
            <a:ext cx="6858000" cy="493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7467120" y="1371600"/>
            <a:ext cx="38124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developer’s too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238520" y="4952880"/>
            <a:ext cx="762120" cy="1067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413064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03:31:08Z</dcterms:created>
  <dc:creator>...</dc:creator>
  <dc:description/>
  <dc:language>en-US</dc:language>
  <cp:lastModifiedBy>...</cp:lastModifiedBy>
  <dcterms:modified xsi:type="dcterms:W3CDTF">2005-07-18T04:39:26Z</dcterms:modified>
  <cp:revision>49</cp:revision>
  <dc:subject/>
  <dc:title>PowerPoint Presentation</dc:title>
</cp:coreProperties>
</file>