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551F1-EA0B-4FF6-ABE5-6684FD652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3F3F9-43AE-4B50-A7C5-386440840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9CAE0-E640-4D01-B40D-D51B39ED5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47908-9EF2-4F81-8FBA-B83EC8A2D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7E814-6CD0-4985-AF44-7F219DD26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D8E07-0532-44F4-991B-C081C4831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916B3-76B2-4DE4-9215-C7885AB67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52921-F733-4847-B283-ED6C9DED9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9C167-5280-4B96-8777-9DBFB93FE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77349-4388-4CA5-9392-C8A07BF20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BCCFF-7D6B-45BE-ADBB-66A91E5E0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5DC02-FA59-4A0A-8B97-AD998BDF4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9AE0-F498-48E2-84F7-C0EB131DD3B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Arial"/>
              </a:rPr>
              <a:t>Software Fault-tolerant architecture desig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ed by</a:t>
            </a:r>
            <a:r>
              <a:rPr b="0" lang="en-US" sz="3200" spc="-1" strike="noStrike">
                <a:solidFill>
                  <a:srgbClr val="000000"/>
                </a:solidFill>
                <a:latin typeface="Arial"/>
              </a:rPr>
              <a:t>:</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any Abdelhali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250920" y="404640"/>
          <a:ext cx="8551800" cy="5977080"/>
        </p:xfrm>
        <a:graphic>
          <a:graphicData uri="http://schemas.openxmlformats.org/presentationml/2006/ole">
            <p:oleObj r:id="rId1" spid="">
              <p:embed/>
              <p:pic>
                <p:nvPicPr>
                  <p:cNvPr id="61" name="" descr=""/>
                  <p:cNvPicPr/>
                  <p:nvPr/>
                </p:nvPicPr>
                <p:blipFill>
                  <a:blip r:embed="rId2"/>
                  <a:stretch/>
                </p:blipFill>
                <p:spPr>
                  <a:xfrm>
                    <a:off x="250920" y="404640"/>
                    <a:ext cx="8551800" cy="5977080"/>
                  </a:xfrm>
                  <a:prstGeom prst="rect">
                    <a:avLst/>
                  </a:prstGeom>
                  <a:ln w="0">
                    <a:noFill/>
                  </a:ln>
                </p:spPr>
              </p:pic>
            </p:oleObj>
          </a:graphicData>
        </a:graphic>
      </p:graphicFrame>
      <p:sp>
        <p:nvSpPr>
          <p:cNvPr id="62" name=""/>
          <p:cNvSpPr/>
          <p:nvPr/>
        </p:nvSpPr>
        <p:spPr>
          <a:xfrm>
            <a:off x="468360" y="0"/>
            <a:ext cx="66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Architecture design constraints and issue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50920" y="260280"/>
            <a:ext cx="828180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In other way we can re arrange the model so that we can say that the major components of a fault-tolerant system a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ult detection</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 Functional checkin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2 Control sequence checkin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 Data checking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1" lang="en-US" sz="1800" spc="-1" strike="noStrike">
                <a:solidFill>
                  <a:srgbClr val="000000"/>
                </a:solidFill>
                <a:latin typeface="Arial"/>
              </a:rPr>
              <a:t>Fault recovery</a:t>
            </a:r>
            <a:r>
              <a:rPr b="0" lang="en-US" sz="1800" spc="-1" strike="noStrike">
                <a:solidFill>
                  <a:srgbClr val="000000"/>
                </a:solidFill>
                <a:latin typeface="Arial"/>
              </a:rPr>
              <a:t>,</a:t>
            </a:r>
            <a:endParaRPr b="0" lang="en-US" sz="18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1 backward recovery or</a:t>
            </a:r>
            <a:endParaRPr b="0" lang="en-US" sz="18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 forward recovery or</a:t>
            </a:r>
            <a:endParaRPr b="0" lang="en-US" sz="18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3 reset state </a:t>
            </a:r>
            <a:endParaRPr b="0" lang="en-US" sz="18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1" lang="en-US" sz="1800" spc="-1" strike="noStrike">
                <a:solidFill>
                  <a:srgbClr val="000000"/>
                </a:solidFill>
                <a:latin typeface="Arial"/>
              </a:rPr>
              <a:t>Fault diagnosis</a:t>
            </a:r>
            <a:r>
              <a:rPr b="0" lang="en-US" sz="1800" spc="-1" strike="noStrike">
                <a:solidFill>
                  <a:srgbClr val="000000"/>
                </a:solidFill>
                <a:latin typeface="Arial"/>
              </a:rPr>
              <a:t>, an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1" lang="en-US" sz="1800" spc="-1" strike="noStrike">
                <a:solidFill>
                  <a:srgbClr val="000000"/>
                </a:solidFill>
                <a:latin typeface="Arial"/>
              </a:rPr>
              <a:t>Repai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79280" y="476280"/>
            <a:ext cx="8713800" cy="5622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Arial"/>
              </a:rPr>
              <a:t>Conclusions</a:t>
            </a:r>
            <a:endParaRPr b="0" lang="en-US" sz="20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fault tolerance is an immature area of research.</a:t>
            </a: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 are becoming increasingly dependent on software-based systems, often without realizing it. While by no means can all such systems be classified as critical, software is turning up everywhere, from airplanes and automobiles to television sets and electric razors. Also, the percentage of software in these systems (relative to hardware) is increasing. the amount of software in consumer products is doubling every year</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quences of failures in these systems can range from inconvenient (e.g., a television remote control that will not work) to catastrophic (e.g., software in a commercial aircraft that inadvertently prevents the pilot from recovering from an error).</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as we see that Fault tolerance has long been used as a means of improving the dependability of computer systems and using it increasing day after day.</a:t>
            </a: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txBox="1"/>
          <p:nvPr/>
        </p:nvSpPr>
        <p:spPr>
          <a:xfrm>
            <a:off x="2484360" y="1197000"/>
            <a:ext cx="3745080" cy="228600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THANKS</a:t>
            </a:r>
            <a:endParaRPr b="0" lang="en-US" sz="1800" spc="1" strike="noStrike">
              <a:ln w="9360">
                <a:solidFill>
                  <a:srgbClr val="000000"/>
                </a:solidFill>
                <a:miter/>
              </a:ln>
              <a:solidFill>
                <a:srgbClr val="000000"/>
              </a:solidFill>
              <a:latin typeface="Impact"/>
              <a:ea typeface="Impac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000000"/>
              </a:solidFill>
              <a:latin typeface="Impact"/>
              <a:ea typeface="Impact"/>
            </a:endParaRPr>
          </a:p>
        </p:txBody>
      </p:sp>
      <p:sp>
        <p:nvSpPr>
          <p:cNvPr id="66" name=""/>
          <p:cNvSpPr txBox="1"/>
          <p:nvPr/>
        </p:nvSpPr>
        <p:spPr>
          <a:xfrm>
            <a:off x="2050920" y="3146400"/>
            <a:ext cx="4897440" cy="571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QUESTION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79280" y="476280"/>
            <a:ext cx="8785440" cy="5919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Arial"/>
              </a:rPr>
              <a:t>Introduction</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 requirements vary from application to anoth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liability requirements of a spacecraft AND the reliability requirements of commercial computer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garding the cycle of …. </a:t>
            </a:r>
            <a:r>
              <a:rPr b="1" lang="en-US" sz="1800" spc="-1" strike="noStrike" u="sng">
                <a:solidFill>
                  <a:srgbClr val="000000"/>
                </a:solidFill>
                <a:uFillTx/>
                <a:latin typeface="Wingdings"/>
                <a:ea typeface="Wingdings"/>
              </a:rPr>
              <a:t></a:t>
            </a:r>
            <a:r>
              <a:rPr b="1" lang="en-US" sz="1800" spc="-1" strike="noStrike" u="sng">
                <a:solidFill>
                  <a:srgbClr val="000000"/>
                </a:solidFill>
                <a:uFillTx/>
                <a:latin typeface="Arial"/>
              </a:rPr>
              <a:t>fault</a:t>
            </a:r>
            <a:r>
              <a:rPr b="1" lang="en-US" sz="1800" spc="-1" strike="noStrike" u="sng">
                <a:solidFill>
                  <a:srgbClr val="000000"/>
                </a:solidFill>
                <a:uFillTx/>
                <a:latin typeface="Wingdings"/>
                <a:ea typeface="Wingdings"/>
              </a:rPr>
              <a:t></a:t>
            </a:r>
            <a:r>
              <a:rPr b="1" lang="en-US" sz="1800" spc="-1" strike="noStrike" u="sng">
                <a:solidFill>
                  <a:srgbClr val="000000"/>
                </a:solidFill>
                <a:uFillTx/>
                <a:latin typeface="Arial"/>
              </a:rPr>
              <a:t>error</a:t>
            </a:r>
            <a:r>
              <a:rPr b="1" lang="en-US" sz="1800" spc="-1" strike="noStrike" u="sng">
                <a:solidFill>
                  <a:srgbClr val="000000"/>
                </a:solidFill>
                <a:uFillTx/>
                <a:latin typeface="Wingdings"/>
                <a:ea typeface="Wingdings"/>
              </a:rPr>
              <a:t></a:t>
            </a:r>
            <a:r>
              <a:rPr b="1" lang="en-US" sz="1800" spc="-1" strike="noStrike" u="sng">
                <a:solidFill>
                  <a:srgbClr val="000000"/>
                </a:solidFill>
                <a:uFillTx/>
                <a:latin typeface="Arial"/>
              </a:rPr>
              <a:t>failure</a:t>
            </a:r>
            <a:r>
              <a:rPr b="1" lang="en-US" sz="1800" spc="-1" strike="noStrike" u="sng">
                <a:solidFill>
                  <a:srgbClr val="000000"/>
                </a:solidFill>
                <a:uFillTx/>
                <a:latin typeface="Wingdings"/>
                <a:ea typeface="Wingdings"/>
              </a:rPr>
              <a:t></a:t>
            </a:r>
            <a:r>
              <a:rPr b="1" lang="en-US" sz="1800" spc="-1" strike="noStrike" u="sng">
                <a:solidFill>
                  <a:srgbClr val="000000"/>
                </a:solidFill>
                <a:uFillTx/>
                <a:latin typeface="Arial"/>
              </a:rPr>
              <a:t>fault</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A faul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identified or hypothesized cause of an error, sometimes called a bu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An err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part of the system state that is liable to lead to a failure. An error may propagate, that is, produce other errors. Faults are known to be present when errors are detec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A fail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urs when the service delivered by the system deviates from the specified 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95280" y="476280"/>
            <a:ext cx="8280360" cy="5031720"/>
          </a:xfrm>
          <a:prstGeom prst="rect">
            <a:avLst/>
          </a:prstGeom>
          <a:noFill/>
          <a:ln w="0">
            <a:noFill/>
          </a:ln>
        </p:spPr>
        <p:style>
          <a:lnRef idx="0"/>
          <a:fillRef idx="0"/>
          <a:effectRef idx="0"/>
          <a:fontRef idx="minor"/>
        </p:style>
        <p:txBody>
          <a:bodyPr lIns="90000" rIns="90000" tIns="46800" bIns="46800" anchor="t">
            <a:sp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Classification of errors</a:t>
            </a: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mistak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failures, and</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operator interaction errors.</a:t>
            </a: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se error sources contribute to system failures</a:t>
            </a:r>
            <a:r>
              <a:rPr b="0" lang="en-US" sz="1800" spc="-1" strike="noStrike">
                <a:solidFill>
                  <a:srgbClr val="333399"/>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Classification of</a:t>
            </a:r>
            <a:r>
              <a:rPr b="0" lang="en-US" sz="1800" spc="-1" strike="noStrike">
                <a:solidFill>
                  <a:srgbClr val="000000"/>
                </a:solidFill>
                <a:latin typeface="Arial"/>
              </a:rPr>
              <a:t> </a:t>
            </a:r>
            <a:r>
              <a:rPr b="1" lang="en-US" sz="1800" spc="-1" strike="noStrike">
                <a:solidFill>
                  <a:srgbClr val="ff3399"/>
                </a:solidFill>
                <a:latin typeface="Arial"/>
              </a:rPr>
              <a:t>System failur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and</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cedural failur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95280" y="476280"/>
            <a:ext cx="7848720" cy="65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Examples of events, with a range of consequences, in which software is thought to be a contributing factor, are briefly noted below:</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January 1990, the AT&amp;T system suffered a nine-hour United States wide blockade when one switch experienced abnormal behavior and attempted recovery. Because of a flaw in recovery-recognition software (in all 114 switches) and a network design that permitted propagation of the effects, the problem spread to all switch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oftware problem caused radiation safety doors in the United Kingdom, nuclear reprocessing plant to be opened accidental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cent report outlined the impact of major system outages on various businesses, noting that the cost for a brokerage is $6.5 million per hour, the cost per hour for a credit-card authorization system is $2.6 million, and for an automated teller machine, $14,500 in automatic teller machine fe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ersian Gulf War, clock drift in the Patriot system caused it to miss a scud missile that hit an American barracks in Dhahran. The missile hit killed 29 people and injured 97 other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24000" y="333360"/>
            <a:ext cx="8496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Fault-tolera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s a system that can suffer failure in a component or subsystem, yet continues to function correc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ult-tolerant is the ability to compute in the presence of errors regardless of its sou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One maintenance objective for both scientific and business machines is reducing the length of repair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Example: Real time applications such as telephone switc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a system in which downtime costs tens of thousands of dollars per minute (e.g. airline reservation system) an increase of only .1% availability makes a substantial differ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50920" y="476280"/>
            <a:ext cx="8281800" cy="4626000"/>
          </a:xfrm>
          <a:prstGeom prst="rect">
            <a:avLst/>
          </a:prstGeom>
          <a:noFill/>
          <a:ln w="0">
            <a:noFill/>
          </a:ln>
        </p:spPr>
        <p:style>
          <a:lnRef idx="0"/>
          <a:fillRef idx="0"/>
          <a:effectRef idx="0"/>
          <a:fontRef idx="minor"/>
        </p:style>
        <p:txBody>
          <a:bodyPr lIns="90000" rIns="90000" tIns="46800" bIns="46800" anchor="t">
            <a:sp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Software faults may be traced to</a:t>
            </a:r>
            <a:r>
              <a:rPr b="1" lang="en-US" sz="1800" spc="-1" strike="noStrike">
                <a:solidFill>
                  <a:srgbClr val="ff3399"/>
                </a:solidFill>
                <a:latin typeface="Arial"/>
              </a:rPr>
              <a:t>:</a:t>
            </a: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a:t>
            </a:r>
            <a:r>
              <a:rPr b="0" lang="en-US" sz="1800" spc="-1" strike="noStrike">
                <a:solidFill>
                  <a:srgbClr val="000000"/>
                </a:solidFill>
                <a:latin typeface="Arial"/>
              </a:rPr>
              <a:t>Incorrect requirements (where the software matches the requirements, but the behavior specified in the requirements is not appropriate)</a:t>
            </a: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a:t>
            </a:r>
            <a:r>
              <a:rPr b="0" lang="en-US" sz="1800" spc="-1" strike="noStrike">
                <a:solidFill>
                  <a:srgbClr val="000000"/>
                </a:solidFill>
                <a:latin typeface="Arial"/>
              </a:rPr>
              <a:t>To the implementation (software design and coding) not satisfying the requirement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a:t>
            </a:r>
            <a:r>
              <a:rPr b="0" lang="en-US" sz="1800" spc="-1" strike="noStrike">
                <a:solidFill>
                  <a:srgbClr val="000000"/>
                </a:solidFill>
                <a:latin typeface="Arial"/>
              </a:rPr>
              <a:t>Changes in operational usage or incorrect modifications may introduce new faul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protect against these software faults, we cannot simply add redundancy, as is typically done for hardware faults, because doing so will simply duplicate the problem</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 to provide protection against these faults, we turn to </a:t>
            </a:r>
            <a:r>
              <a:rPr b="1" lang="en-US" sz="1800" spc="-1" strike="noStrike" u="sng">
                <a:solidFill>
                  <a:srgbClr val="333399"/>
                </a:solidFill>
                <a:uFillTx/>
                <a:latin typeface="Arial"/>
              </a:rPr>
              <a:t>software fault tolerance</a:t>
            </a:r>
            <a:r>
              <a:rPr b="1" lang="en-US" sz="1800" spc="-1" strike="noStrike">
                <a:solidFill>
                  <a:srgbClr val="333399"/>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79280" y="333360"/>
            <a:ext cx="8640720" cy="5723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Increasing the dependability of software presents some unique challenges when compared to traditional hardware systems</a:t>
            </a:r>
            <a:r>
              <a:rPr b="1" lang="en-US" sz="1800" spc="-1" strike="noStrike">
                <a:solidFill>
                  <a:srgbClr val="ff3399"/>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faults are primarily physical faults, which can be characterized and predicted over tim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has only logical faults, which are difficult to visualize, classify, detect, and corr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does not physically wear out, burn out, or otherwise physically deteriorate with tim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no available techniques for measuring the number of software faults in a program and every change to a software system creates a new system that has different reliability properties from the original on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rrection of a software error may have side effects in other parts of the system that increase rather than decrease the total number of erro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95280" y="476280"/>
            <a:ext cx="8209080" cy="3123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viously, correcting a software error is not as simple as correcting a hardware error by replacing a faulty component with a good one. But once the software faults are corrected, they don’t recur as do hardware faul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large software system, exhaustive testing is usually not feasibl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system is used more frequently and is operated as its full capacity, major errors are detected and corrected, thereby reducing the total number of faults in the system. The number continues to decrease asymptomatically decreasing with time to a limit of some fixed positive number , but this is the case for hardware design it becomes stable with time but not the case in software. (</a:t>
            </a:r>
            <a:r>
              <a:rPr b="1" lang="en-US" sz="1800" spc="-1" strike="noStrike">
                <a:solidFill>
                  <a:srgbClr val="ff3399"/>
                </a:solidFill>
                <a:latin typeface="Arial"/>
              </a:rPr>
              <a:t>why?)</a:t>
            </a:r>
            <a:endParaRPr b="0" lang="en-US" sz="1800" spc="-1" strike="noStrike">
              <a:solidFill>
                <a:srgbClr val="000000"/>
              </a:solidFill>
              <a:latin typeface="Arial"/>
            </a:endParaRPr>
          </a:p>
        </p:txBody>
      </p:sp>
      <p:sp>
        <p:nvSpPr>
          <p:cNvPr id="50" name=""/>
          <p:cNvSpPr/>
          <p:nvPr/>
        </p:nvSpPr>
        <p:spPr>
          <a:xfrm>
            <a:off x="5796000" y="450864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grpSp>
        <p:nvGrpSpPr>
          <p:cNvPr id="51" name=""/>
          <p:cNvGrpSpPr/>
          <p:nvPr/>
        </p:nvGrpSpPr>
        <p:grpSpPr>
          <a:xfrm>
            <a:off x="2050920" y="3789360"/>
            <a:ext cx="4537080" cy="2168280"/>
            <a:chOff x="2050920" y="3789360"/>
            <a:chExt cx="4537080" cy="2168280"/>
          </a:xfrm>
        </p:grpSpPr>
        <p:sp>
          <p:nvSpPr>
            <p:cNvPr id="52" name=""/>
            <p:cNvSpPr/>
            <p:nvPr/>
          </p:nvSpPr>
          <p:spPr>
            <a:xfrm>
              <a:off x="2050920" y="3789360"/>
              <a:ext cx="0" cy="20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2050920" y="5876640"/>
              <a:ext cx="41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5290920" y="5373360"/>
              <a:ext cx="720720" cy="43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266920" y="4005000"/>
              <a:ext cx="4321080" cy="1392480"/>
            </a:xfrm>
            <a:custGeom>
              <a:avLst/>
              <a:gdLst/>
              <a:ahLst/>
              <a:rect l="l" t="t" r="r" b="b"/>
              <a:pathLst>
                <a:path w="2722" h="877">
                  <a:moveTo>
                    <a:pt x="0" y="0"/>
                  </a:moveTo>
                  <a:cubicBezTo>
                    <a:pt x="163" y="290"/>
                    <a:pt x="326" y="581"/>
                    <a:pt x="681" y="725"/>
                  </a:cubicBezTo>
                  <a:cubicBezTo>
                    <a:pt x="1036" y="869"/>
                    <a:pt x="1792" y="847"/>
                    <a:pt x="2132" y="862"/>
                  </a:cubicBezTo>
                  <a:cubicBezTo>
                    <a:pt x="2472" y="877"/>
                    <a:pt x="2616" y="824"/>
                    <a:pt x="2722" y="816"/>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4356000" y="5589360"/>
              <a:ext cx="129528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Arial"/>
              </a:endParaRPr>
            </a:p>
          </p:txBody>
        </p:sp>
      </p:grpSp>
      <p:sp>
        <p:nvSpPr>
          <p:cNvPr id="57" name=""/>
          <p:cNvSpPr/>
          <p:nvPr/>
        </p:nvSpPr>
        <p:spPr>
          <a:xfrm>
            <a:off x="611280" y="4508640"/>
            <a:ext cx="1439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design faults</a:t>
            </a:r>
            <a:endParaRPr b="0" lang="en-US" sz="1800" spc="-1" strike="noStrike">
              <a:solidFill>
                <a:srgbClr val="000000"/>
              </a:solidFill>
              <a:latin typeface="Arial"/>
            </a:endParaRPr>
          </a:p>
        </p:txBody>
      </p:sp>
      <p:sp>
        <p:nvSpPr>
          <p:cNvPr id="58" name=""/>
          <p:cNvSpPr/>
          <p:nvPr/>
        </p:nvSpPr>
        <p:spPr>
          <a:xfrm>
            <a:off x="4284720" y="602136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79280" y="476280"/>
            <a:ext cx="8280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Software fault tolerance techniques have been used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erospac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uclear pow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althc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lecommunications an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ound transportation industries, among oth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8T23:47:00Z</dcterms:created>
  <dc:creator>pepo</dc:creator>
  <dc:description/>
  <dc:language>en-US</dc:language>
  <cp:lastModifiedBy>pepo</cp:lastModifiedBy>
  <dcterms:modified xsi:type="dcterms:W3CDTF">2005-07-21T19:24:18Z</dcterms:modified>
  <cp:revision>25</cp:revision>
  <dc:subject/>
  <dc:title>Software Fault-tolerant architecture design</dc:title>
</cp:coreProperties>
</file>